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5D28-6B37-44A9-864A-D90440388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8C0D-897F-4B21-9413-4EC00E99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6336-66D9-4DE0-B9C8-895DA06CB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F82C-D711-4C69-B860-DD9CD6069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E1DC-F83B-4654-86CC-00B64101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54D9-1EAA-4123-B1FC-BC56C2B7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D87D-BD5F-4B6C-A8B0-FD3B0483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5533-D1E2-43A5-AFD4-6FD2E2B1F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6477-DF6B-4079-83B6-7DCAFB733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9706-0B18-48C3-B0CE-0CD8ED85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DFBD-8B8F-43B3-BB96-677AF6D5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82AE-53EA-4C12-AFAA-D8C8FDE0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7C00-8736-45B3-BF08-B15409712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0 Haleluja! Kráľovi čes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aleluja! Kráľovi če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še srdcia vzdávajú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dostne na jeho sláv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ovú pieseň spievajú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sám za nás znášal muk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o Golgote trpel, mre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by hriešnik z jeho ruk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jal život, spásu zre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aleluja! Kristus prišie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mohol hriech, smrti noc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íťazne keď z hrobu vyšie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javil svetu Božiu moc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ranené jeho dl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večný dar spaseni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mu patrí vďakyvzdani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d celého stvoren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aleluja! Náš Pán ži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my máme večne ž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ďakou nech nám srdce bi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nás prišiel vykúp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ia milosť spásonosn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aká našu ozven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vie láskou šíriť rado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úžiť verne blížnemu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18:38:05Z</dcterms:modified>
  <cp:revision>28</cp:revision>
  <dc:subject/>
  <dc:title>Je veľký náš Pán, on slávy je Kráľ Nech do všetkých strán  spev vrúcnych znie chvál.</dc:title>
</cp:coreProperties>
</file>